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4344-17CA-4CDB-8903-528D1770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18A8-068C-45C1-AFB4-E7BC25E9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02F4-04F8-4D15-8FB3-92576875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7544-9DC4-417E-9118-7A0DF496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6F86-FA23-43BF-AB75-C059EBA0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B7D-15D7-4B84-9CC1-CD05C28B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280-1F32-440A-9D03-1A190E64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272-DF3E-40D7-AB67-D9E47580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B1FE-5DF5-4474-8A43-313BCA5B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FE6-B050-4700-8931-1476E300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E38B-F203-4784-8D65-923D6BEE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0352-4F37-4301-A316-90FC601D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e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6F8B-7DE4-4E94-9E4D-1F9FDE47B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eb.mit.edu/invent/iow/lanmon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e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0145600">
            <a:off x="6708600" y="4876200"/>
            <a:ext cx="2133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7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95280" y="838080"/>
            <a:ext cx="5715000" cy="307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333399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ocket Diap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333399"/>
                  </a:gs>
                </a:gsLst>
                <a:lin ang="81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25780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p H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 7,201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reeplaymusic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Lanmon"/>
          <p:cNvPicPr/>
          <p:nvPr/>
        </p:nvPicPr>
        <p:blipFill>
          <a:blip r:embed="rId3"/>
          <a:srcRect l="80934" t="0" r="4105" b="41675"/>
          <a:stretch/>
        </p:blipFill>
        <p:spPr>
          <a:xfrm>
            <a:off x="380880" y="3581280"/>
            <a:ext cx="1981440" cy="1636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e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Lanmon"/>
          <p:cNvPicPr/>
          <p:nvPr/>
        </p:nvPicPr>
        <p:blipFill>
          <a:blip r:embed="rId1"/>
          <a:srcRect l="38362" t="0" r="4105" b="0"/>
          <a:stretch/>
        </p:blipFill>
        <p:spPr>
          <a:xfrm>
            <a:off x="4191120" y="762120"/>
            <a:ext cx="380988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Lanmon"/>
          <p:cNvPicPr/>
          <p:nvPr/>
        </p:nvPicPr>
        <p:blipFill>
          <a:blip r:embed="rId2"/>
          <a:srcRect l="0" t="0" r="62824" b="0"/>
          <a:stretch/>
        </p:blipFill>
        <p:spPr>
          <a:xfrm>
            <a:off x="609480" y="762120"/>
            <a:ext cx="2667240" cy="2608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5181480"/>
            <a:ext cx="79250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-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elsea Lanm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 10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lanm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3352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lsea Lanmon invented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cket dia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e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Pocket Di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cket Diaper is a diaper with a removable pocket holding; baby powder and a baby w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cket is made up of a dry wipe perforated by a fork so it was remov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lsea invented the Pocket Diaper to make it easier to change a diaper, since it had many steps to changing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Pocket Diaper, you no longer have to get wipes, powder, or a new diaper because the pocket has it all there and its remov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en your done using it just throw it away with the wipe and put a new one 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e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Chelsea Lanm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lsea was 5 when she started to change her little brother’s diap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lsea, 7 years old now, knew how many steps there was in the process in changing a di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loved inventing stuff since she was a little gir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Chelsea came up with the idea of the Pocket Di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older brother always encouraged her to be in compet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she entered the National Invention Cont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lsea entered with her invention the Pocket Diaper, and won first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3:19:47Z</dcterms:created>
  <dc:creator>install</dc:creator>
  <dc:description/>
  <dc:language>en-US</dc:language>
  <cp:lastModifiedBy>install</cp:lastModifiedBy>
  <dcterms:modified xsi:type="dcterms:W3CDTF">2010-05-14T13:16:34Z</dcterms:modified>
  <cp:revision>9</cp:revision>
  <dc:subject/>
  <dc:title>Slide 1</dc:title>
</cp:coreProperties>
</file>